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%D8%A7%D8%B1%D8%AA%D9%81%D8%A7%D8%B92.wav" ContentType="audio/x-wav"/>
  <Override PartName="/ppt/media/image4.wmf" ContentType="image/x-wmf"/>
  <Override PartName="/ppt/media/%D8%B3%D8%AD%D9%91%D8%A7%D8%A82.wav" ContentType="audio/x-wav"/>
  <Override PartName="/ppt/media/PROJCTOR.WAV" ContentType="audio/x-wav"/>
  <Override PartName="/ppt/media/GLASS.WAV" ContentType="audio/x-wav"/>
  <Override PartName="/ppt/media/GU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7D6-6487-4700-A3AE-D3EBCAC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FF7-6175-4704-BA46-565334CF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B8F-251F-4E78-B817-2AAB9D4E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427-D08B-40A7-8B24-0B1ED7D8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DD6-FB92-433D-A38E-589E907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7F8-C79F-4146-BBF9-06D11CC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94C-14EC-4530-A42E-4D77EF6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F6A-826C-491D-8CBA-1907DF9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DFC-8C34-4989-9173-FBDACCD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E62-3417-4052-9D33-B661E4F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327-4899-4CFD-B8D0-9C196CA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4FB-1934-4C01-A776-8BE07F7A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0EE4AD-A0FF-479A-865A-71CD457F23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PROJCTOR.WAV"/><Relationship Id="rId7" Type="http://schemas.openxmlformats.org/officeDocument/2006/relationships/audio" Target="../media/GLASS.WAV"/><Relationship Id="rId8" Type="http://schemas.openxmlformats.org/officeDocument/2006/relationships/audio" Target="../media/&#1575;&#1585;&#1578;&#1601;&#1575;&#1593;2.wav"/><Relationship Id="rId9" Type="http://schemas.openxmlformats.org/officeDocument/2006/relationships/audio" Target="../media/GUN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2197080"/>
            <a:chOff x="0" y="0"/>
            <a:chExt cx="4267080" cy="2197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133720" y="0"/>
              <a:ext cx="213336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37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914400" y="2286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46000" y="3352680"/>
            <a:ext cx="1987560" cy="350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911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8%B1%D8%AA%D9%81%D8%A7%D8%B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48:12Z</dcterms:modified>
  <cp:revision>26</cp:revision>
  <dc:subject/>
  <dc:title>No Slide Title</dc:title>
</cp:coreProperties>
</file>